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6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F8C-CA16-4A91-B1A0-80CB2673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E53-03AD-4F54-978E-66D71EC9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B95-4D2E-4B9A-A15E-4886AC3D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6A9-2965-4645-AF98-F4EC6959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3D4-6E02-471D-AA7F-01FC73C9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021-BF8E-4A99-8E41-8FB103FD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A8C-4C24-41C1-BC79-2AF9C905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A10-3D92-4E50-AA47-A0C782DD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058-485D-4712-99A4-88A0D2B2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F10-715D-4125-929F-2CABCFBD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F4C-7BBF-4649-824A-E8F7D6F8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00D-CDF4-4871-BAC6-C415F4E3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94F4-F48A-48E2-B6E9-EE02AA67FBDE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5021-F9D1-4AED-ABA6-DC329EF6FFE4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Diagram 11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6" name="Prostokąt zaokrąglony 13"/>
            <p:cNvSpPr/>
            <p:nvPr/>
          </p:nvSpPr>
          <p:spPr>
            <a:xfrm>
              <a:off x="671040" y="1989000"/>
              <a:ext cx="882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rostokąt 14" descr=""/>
            <p:cNvPicPr/>
            <p:nvPr/>
          </p:nvPicPr>
          <p:blipFill>
            <a:blip r:embed="rId3"/>
            <a:stretch/>
          </p:blipFill>
          <p:spPr>
            <a:xfrm>
              <a:off x="611280" y="1999080"/>
              <a:ext cx="10080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700280" cy="208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1800360" cy="1984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4"/>
          <a:stretch/>
        </p:blipFill>
        <p:spPr>
          <a:xfrm>
            <a:off x="5435640" y="4221000"/>
            <a:ext cx="2592360" cy="215748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upa 22"/>
          <p:cNvGrpSpPr/>
          <p:nvPr/>
        </p:nvGrpSpPr>
        <p:grpSpPr>
          <a:xfrm>
            <a:off x="539640" y="333360"/>
            <a:ext cx="6480360" cy="2114640"/>
            <a:chOff x="539640" y="333360"/>
            <a:chExt cx="6480360" cy="2114640"/>
          </a:xfrm>
        </p:grpSpPr>
        <p:sp>
          <p:nvSpPr>
            <p:cNvPr id="128" name="Dowolny kształt 18"/>
            <p:cNvSpPr/>
            <p:nvPr/>
          </p:nvSpPr>
          <p:spPr>
            <a:xfrm>
              <a:off x="2195280" y="620640"/>
              <a:ext cx="4824720" cy="14493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3280" rIns="143280" tIns="143280" bIns="14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FILA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obowiązkowy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reformowany Z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1263240" cy="21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upa 23"/>
          <p:cNvGrpSpPr/>
          <p:nvPr/>
        </p:nvGrpSpPr>
        <p:grpSpPr>
          <a:xfrm>
            <a:off x="826920" y="2276640"/>
            <a:ext cx="7129800" cy="2089080"/>
            <a:chOff x="826920" y="2276640"/>
            <a:chExt cx="7129800" cy="2089080"/>
          </a:xfrm>
        </p:grpSpPr>
        <p:sp>
          <p:nvSpPr>
            <p:cNvPr id="131" name="Dowolny kształt 19"/>
            <p:cNvSpPr/>
            <p:nvPr/>
          </p:nvSpPr>
          <p:spPr>
            <a:xfrm>
              <a:off x="826920" y="2708280"/>
              <a:ext cx="4608720" cy="14493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3280" rIns="143280" tIns="143280" bIns="14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I FILA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obowiązkowy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twarte fundusze emerytalne (OFE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3" descr=""/>
            <p:cNvPicPr/>
            <p:nvPr/>
          </p:nvPicPr>
          <p:blipFill>
            <a:blip r:embed="rId3"/>
            <a:stretch/>
          </p:blipFill>
          <p:spPr>
            <a:xfrm>
              <a:off x="5796360" y="2276640"/>
              <a:ext cx="2160360" cy="20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upa 24"/>
          <p:cNvGrpSpPr/>
          <p:nvPr/>
        </p:nvGrpSpPr>
        <p:grpSpPr>
          <a:xfrm>
            <a:off x="900000" y="4437000"/>
            <a:ext cx="7363080" cy="2160720"/>
            <a:chOff x="900000" y="4437000"/>
            <a:chExt cx="7363080" cy="2160720"/>
          </a:xfrm>
        </p:grpSpPr>
        <p:sp>
          <p:nvSpPr>
            <p:cNvPr id="134" name="Dowolny kształt 20"/>
            <p:cNvSpPr/>
            <p:nvPr/>
          </p:nvSpPr>
          <p:spPr>
            <a:xfrm>
              <a:off x="4213080" y="4868640"/>
              <a:ext cx="4050000" cy="14493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3280" rIns="143280" tIns="143280" bIns="14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II FILA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nieobowiązkowy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obrowolne ubezpieczenie dodatkow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4" descr=""/>
            <p:cNvPicPr/>
            <p:nvPr/>
          </p:nvPicPr>
          <p:blipFill>
            <a:blip r:embed="rId4"/>
            <a:stretch/>
          </p:blipFill>
          <p:spPr>
            <a:xfrm>
              <a:off x="900000" y="4437000"/>
              <a:ext cx="218772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5" descr=""/>
            <p:cNvPicPr/>
            <p:nvPr/>
          </p:nvPicPr>
          <p:blipFill>
            <a:blip r:embed="rId5"/>
            <a:stretch/>
          </p:blipFill>
          <p:spPr>
            <a:xfrm>
              <a:off x="3348360" y="4437000"/>
              <a:ext cx="685440" cy="21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ole tekstowe 15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Users\Marta\Desktop\sowa\sowa_3.png"/>
          <p:cNvPicPr/>
          <p:nvPr/>
        </p:nvPicPr>
        <p:blipFill>
          <a:blip r:embed="rId6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filar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3" name="pole tekstowe 6"/>
          <p:cNvSpPr/>
          <p:nvPr/>
        </p:nvSpPr>
        <p:spPr>
          <a:xfrm>
            <a:off x="3564000" y="1341360"/>
            <a:ext cx="47530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li zreformowany ZUS, ma charakter repartycyjny i jest zarządzany przez Zakład Ubezpieczeń Społecznych. Przynależność do I filaru jest obowiązkowa dla każdego pracując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043080" cy="1852560"/>
          </a:xfrm>
          <a:prstGeom prst="rect">
            <a:avLst/>
          </a:prstGeom>
          <a:ln w="0">
            <a:noFill/>
          </a:ln>
        </p:spPr>
      </p:pic>
      <p:sp>
        <p:nvSpPr>
          <p:cNvPr id="145" name="pole tekstowe 8"/>
          <p:cNvSpPr/>
          <p:nvPr/>
        </p:nvSpPr>
        <p:spPr>
          <a:xfrm>
            <a:off x="324000" y="4076640"/>
            <a:ext cx="5616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merytura z I filaru jest finansowan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bieżących składek wszystkich pracujących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j wielkość zależy od liczby  przepracowanych lat i wysokości odprowadzanych skład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5940360" y="4292640"/>
            <a:ext cx="2279880" cy="187308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I filar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3" name="pole tekstowe 6"/>
          <p:cNvSpPr/>
          <p:nvPr/>
        </p:nvSpPr>
        <p:spPr>
          <a:xfrm>
            <a:off x="4067280" y="1268280"/>
            <a:ext cx="41767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li otwarte fundusze emerytalne, ma charakter kapitałowy i jest zarządzany przez Powszechne Towarzystwo Emerytalne. Nadzór nad OFE pełni Komisja Nadzoru Finansowego. Zadaniem otwartych funduszy emerytalnych jest pomnażanie pieniędzy, które co miesiąc wpływają na indywidualne konta emerytal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9"/>
          <p:cNvGrpSpPr/>
          <p:nvPr/>
        </p:nvGrpSpPr>
        <p:grpSpPr>
          <a:xfrm>
            <a:off x="324000" y="2492280"/>
            <a:ext cx="3555720" cy="2016360"/>
            <a:chOff x="324000" y="2492280"/>
            <a:chExt cx="3555720" cy="2016360"/>
          </a:xfrm>
        </p:grpSpPr>
        <p:pic>
          <p:nvPicPr>
            <p:cNvPr id="155" name="Picture 3" descr=""/>
            <p:cNvPicPr/>
            <p:nvPr/>
          </p:nvPicPr>
          <p:blipFill>
            <a:blip r:embed="rId2"/>
            <a:stretch/>
          </p:blipFill>
          <p:spPr>
            <a:xfrm>
              <a:off x="324000" y="2492280"/>
              <a:ext cx="355572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" descr=""/>
            <p:cNvPicPr/>
            <p:nvPr/>
          </p:nvPicPr>
          <p:blipFill>
            <a:blip r:embed="rId3"/>
            <a:stretch/>
          </p:blipFill>
          <p:spPr>
            <a:xfrm>
              <a:off x="1763640" y="2852280"/>
              <a:ext cx="1367640" cy="59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II filar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3" name="pole tekstowe 6"/>
          <p:cNvSpPr/>
          <p:nvPr/>
        </p:nvSpPr>
        <p:spPr>
          <a:xfrm>
            <a:off x="395280" y="1341360"/>
            <a:ext cx="36720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należność do tego filaru jest dobrowolna. Ma za zadanie zapewnić przyszłemu emerytowi dodatkowe źródło utrzymania.  Przez III filar rozumiemy wszystkie możliwości lokowania pieniędzy, które daje nam rynek finansow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4012920" cy="2879640"/>
          </a:xfrm>
          <a:prstGeom prst="rect">
            <a:avLst/>
          </a:prstGeom>
          <a:ln w="0">
            <a:noFill/>
          </a:ln>
        </p:spPr>
      </p:pic>
      <p:sp>
        <p:nvSpPr>
          <p:cNvPr id="165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ole tekstowe 7"/>
          <p:cNvSpPr/>
          <p:nvPr/>
        </p:nvSpPr>
        <p:spPr>
          <a:xfrm>
            <a:off x="468360" y="549360"/>
            <a:ext cx="7632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wnicze programy emerytalne 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realizowane w formie ubezpieczenia grupowego. Polegają na opłacaniu przez pracodawcę dodatkowych składek emerytalnych dla swoich pracownik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7200720" cy="3178440"/>
          </a:xfrm>
          <a:prstGeom prst="rect">
            <a:avLst/>
          </a:prstGeom>
          <a:ln w="0">
            <a:noFill/>
          </a:ln>
        </p:spPr>
      </p:pic>
      <p:sp>
        <p:nvSpPr>
          <p:cNvPr id="172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rostokąt zaokrąglony 9"/>
          <p:cNvSpPr/>
          <p:nvPr/>
        </p:nvSpPr>
        <p:spPr>
          <a:xfrm>
            <a:off x="3995640" y="404640"/>
            <a:ext cx="4176720" cy="583272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5832720"/>
              <a:gd name="textAreaBottom" fmla="*/ 5628960 h 5832720"/>
            </a:gdLst>
            <a:ahLst/>
            <a:rect l="textAreaLeft" t="textAreaTop" r="textAreaRight" b="textAreaBottom"/>
            <a:pathLst>
              <a:path w="21600" h="30163">
                <a:moveTo>
                  <a:pt x="3600" y="0"/>
                </a:moveTo>
                <a:arcTo wR="3600" hR="3600" stAng="16200000" swAng="-5400000"/>
                <a:lnTo>
                  <a:pt x="0" y="26563"/>
                </a:lnTo>
                <a:arcTo wR="3600" hR="3600" stAng="10800000" swAng="-5400000"/>
                <a:lnTo>
                  <a:pt x="18000" y="301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7"/>
          <p:cNvSpPr/>
          <p:nvPr/>
        </p:nvSpPr>
        <p:spPr>
          <a:xfrm>
            <a:off x="4067280" y="549360"/>
            <a:ext cx="403380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dywidualne konta emerytalne (IKE) 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 indywidualna forma oszczędzania, zwolniona od podatku od zysku, jaki zostanie wypracowany przez pieniądze zgromadzone na koncie. Oszczędności w tej formie można gromadzić tylko na jednym koncie w banku, funduszu inwestycyjnym lub domu maklersk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709800" cy="2519640"/>
          </a:xfrm>
          <a:prstGeom prst="rect">
            <a:avLst/>
          </a:prstGeom>
          <a:ln w="0">
            <a:noFill/>
          </a:ln>
        </p:spPr>
      </p:pic>
      <p:sp>
        <p:nvSpPr>
          <p:cNvPr id="180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ole tekstowe 7"/>
          <p:cNvSpPr/>
          <p:nvPr/>
        </p:nvSpPr>
        <p:spPr>
          <a:xfrm>
            <a:off x="3419640" y="404640"/>
            <a:ext cx="4824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bezpieczenie na życie z funduszem inwestycyjnym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jest najpopularniejszą formą ochrony życia. Od momentu podpisania umowy z firmą ubezpieczeniową rodzina  może liczyć na odszkodowan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zypadku zgonu ubezpieczonego. Połączenie polisy na życie z funduszem inwestycyjnym daje dodatkową korzyść ubezpieczonemu w postaci pomnożenia zainwestowanego kapitału i powiększenia przyszłej emerytury. W odróżnieniu od IKE ubezpieczenie na życie wymusza systematyczne opłacanie skła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176640" cy="4537080"/>
          </a:xfrm>
          <a:prstGeom prst="rect">
            <a:avLst/>
          </a:prstGeom>
          <a:ln w="0">
            <a:noFill/>
          </a:ln>
        </p:spPr>
      </p:pic>
      <p:sp>
        <p:nvSpPr>
          <p:cNvPr id="18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08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413000"/>
          <a:ext cx="7777080" cy="371520"/>
        </p:xfrm>
        <a:graphic>
          <a:graphicData uri="http://schemas.openxmlformats.org/drawingml/2006/table">
            <a:tbl>
              <a:tblPr/>
              <a:tblGrid>
                <a:gridCol w="1584000"/>
                <a:gridCol w="61930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24000" y="1773360"/>
          <a:ext cx="7777080" cy="1606320"/>
        </p:xfrm>
        <a:graphic>
          <a:graphicData uri="http://schemas.openxmlformats.org/drawingml/2006/table">
            <a:tbl>
              <a:tblPr/>
              <a:tblGrid>
                <a:gridCol w="1584000"/>
                <a:gridCol w="6193080"/>
              </a:tblGrid>
              <a:tr h="160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 FI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zyli zreformowany ZUS, ma charakter repartycyjny i jest zarządzany przez Zakład Ubezpieczeń Społecznych. Przynależność do I filaru jest obowiązkowa dla każdego pracującego. Emerytura z I filaru jest finansowana z bieżących składek wszystkich pracujących, a jej wielkość zależy od liczby przepracowanych lat i wysokości odprowadzanych składe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24000" y="3357720"/>
          <a:ext cx="7777080" cy="1366560"/>
        </p:xfrm>
        <a:graphic>
          <a:graphicData uri="http://schemas.openxmlformats.org/drawingml/2006/table">
            <a:tbl>
              <a:tblPr/>
              <a:tblGrid>
                <a:gridCol w="1584000"/>
                <a:gridCol w="6193080"/>
              </a:tblGrid>
              <a:tr h="136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I FI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zyli otwarte fundusze emerytalne, ma charakter kapitałowy i jest zarządzany przez Powszechne Towarzystwo Emerytalne. Nadzór nad OFE pełni Komisja Nadzoru Finansowego. Zadaniem otwartych funduszy emerytalnych jest pomnażanie pieniędzy, które co miesiąc wpływają na indywidualne konta emerytal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4000" y="4724280"/>
          <a:ext cx="7777080" cy="1152720"/>
        </p:xfrm>
        <a:graphic>
          <a:graphicData uri="http://schemas.openxmlformats.org/drawingml/2006/table">
            <a:tbl>
              <a:tblPr/>
              <a:tblGrid>
                <a:gridCol w="1584000"/>
                <a:gridCol w="6193080"/>
              </a:tblGrid>
              <a:tr h="115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II FI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rzynależność do tego filaru jest dobrowolna. Ma za zadanie zapewnić przyszłemu emerytowi dodatkowe źródło utrzymania. Przez III filar rozumiemy wszystkie możliwości lokowania pieniędzy, które daje nam rynek finansow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198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ole tekstowe 7"/>
          <p:cNvSpPr/>
          <p:nvPr/>
        </p:nvSpPr>
        <p:spPr>
          <a:xfrm>
            <a:off x="395280" y="476280"/>
            <a:ext cx="7777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 wyborze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Otwartego funduszu emerytalnego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należy wziąć pod uwagę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20"/>
          <p:cNvGrpSpPr/>
          <p:nvPr/>
        </p:nvGrpSpPr>
        <p:grpSpPr>
          <a:xfrm>
            <a:off x="2700360" y="1704960"/>
            <a:ext cx="5472000" cy="1319400"/>
            <a:chOff x="2700360" y="1704960"/>
            <a:chExt cx="5472000" cy="1319400"/>
          </a:xfrm>
        </p:grpSpPr>
        <p:sp>
          <p:nvSpPr>
            <p:cNvPr id="205" name="Prostokąt 14"/>
            <p:cNvSpPr/>
            <p:nvPr/>
          </p:nvSpPr>
          <p:spPr>
            <a:xfrm>
              <a:off x="2700360" y="2192400"/>
              <a:ext cx="5472000" cy="8319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Dowolny kształt 15"/>
            <p:cNvSpPr/>
            <p:nvPr/>
          </p:nvSpPr>
          <p:spPr>
            <a:xfrm>
              <a:off x="2973240" y="1704960"/>
              <a:ext cx="3830760" cy="97488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2240" rIns="19224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niki inwestycyjne fundusz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upa 21"/>
          <p:cNvGrpSpPr/>
          <p:nvPr/>
        </p:nvGrpSpPr>
        <p:grpSpPr>
          <a:xfrm>
            <a:off x="2700360" y="3201840"/>
            <a:ext cx="5472000" cy="1317600"/>
            <a:chOff x="2700360" y="3201840"/>
            <a:chExt cx="5472000" cy="1317600"/>
          </a:xfrm>
        </p:grpSpPr>
        <p:sp>
          <p:nvSpPr>
            <p:cNvPr id="208" name="Prostokąt 16"/>
            <p:cNvSpPr/>
            <p:nvPr/>
          </p:nvSpPr>
          <p:spPr>
            <a:xfrm>
              <a:off x="2700360" y="3689280"/>
              <a:ext cx="5472000" cy="8301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5767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Dowolny kształt 17"/>
            <p:cNvSpPr/>
            <p:nvPr/>
          </p:nvSpPr>
          <p:spPr>
            <a:xfrm>
              <a:off x="2973240" y="3201840"/>
              <a:ext cx="3830760" cy="973080"/>
            </a:xfrm>
            <a:prstGeom prst="pie">
              <a:avLst/>
            </a:prstGeom>
            <a:solidFill>
              <a:srgbClr val="5767b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2240" rIns="19224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sokość aktywów OF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upa 22"/>
          <p:cNvGrpSpPr/>
          <p:nvPr/>
        </p:nvGrpSpPr>
        <p:grpSpPr>
          <a:xfrm>
            <a:off x="2700360" y="4699080"/>
            <a:ext cx="5472000" cy="1317600"/>
            <a:chOff x="2700360" y="4699080"/>
            <a:chExt cx="5472000" cy="1317600"/>
          </a:xfrm>
        </p:grpSpPr>
        <p:sp>
          <p:nvSpPr>
            <p:cNvPr id="211" name="Prostokąt 18"/>
            <p:cNvSpPr/>
            <p:nvPr/>
          </p:nvSpPr>
          <p:spPr>
            <a:xfrm>
              <a:off x="2700360" y="5186520"/>
              <a:ext cx="5472000" cy="8301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Dowolny kształt 19"/>
            <p:cNvSpPr/>
            <p:nvPr/>
          </p:nvSpPr>
          <p:spPr>
            <a:xfrm>
              <a:off x="2973240" y="4699080"/>
              <a:ext cx="3830760" cy="973080"/>
            </a:xfrm>
            <a:prstGeom prst="pie">
              <a:avLst/>
            </a:pr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2240" rIns="19224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jakość obsługi klient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1971720" cy="289548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2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174276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03640" y="1484280"/>
            <a:ext cx="1876320" cy="252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4956120" y="3789360"/>
            <a:ext cx="3227400" cy="277344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ole tekstowe 7"/>
          <p:cNvSpPr/>
          <p:nvPr/>
        </p:nvSpPr>
        <p:spPr>
          <a:xfrm>
            <a:off x="324000" y="333360"/>
            <a:ext cx="78483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niki inwestycyjne funduszu </a:t>
            </a: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okazują, jak skutecznie fundusz pomnaża nasze pieniądze. Tu należy porównać stopy zwrotu OFE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różnych okresach, warto zwrócić uwagę, który z funduszy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ostatnich trzech latach osiągnął wysoką stopę zwrotu i jest w czołówce rankingu. Stopa zwrotu obrazuje, jakie fundusz osiągnął zyski dla swoich klientów w określonym czasie. Ważne jest, aby fundusz regularnie notował wyniki lepsze od średniej wszystkich fundusz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2484360" y="4149720"/>
            <a:ext cx="3630600" cy="230508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ole tekstowe 7"/>
          <p:cNvSpPr/>
          <p:nvPr/>
        </p:nvSpPr>
        <p:spPr>
          <a:xfrm>
            <a:off x="4067280" y="907920"/>
            <a:ext cx="41767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ość aktywów OFE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fundusze małe, których wielkość aktywów jest na poziomie kilkuset milionów, nie mogą realizować dużych projektów inwestycyjnych o wysokiej zyskowności. Tym samym nie mogą zapewnić nam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zyszłości większej emeryt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3690720" cy="1944720"/>
          </a:xfrm>
          <a:prstGeom prst="rect">
            <a:avLst/>
          </a:prstGeom>
          <a:ln w="0">
            <a:noFill/>
          </a:ln>
        </p:spPr>
      </p:pic>
      <p:sp>
        <p:nvSpPr>
          <p:cNvPr id="228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 rot="20148000">
            <a:off x="213840" y="731520"/>
            <a:ext cx="2271960" cy="1528560"/>
          </a:xfrm>
          <a:prstGeom prst="rect">
            <a:avLst/>
          </a:prstGeom>
          <a:ln w="0">
            <a:noFill/>
          </a:ln>
        </p:spPr>
      </p:pic>
      <p:sp>
        <p:nvSpPr>
          <p:cNvPr id="231" name="pole tekstowe 7"/>
          <p:cNvSpPr/>
          <p:nvPr/>
        </p:nvSpPr>
        <p:spPr>
          <a:xfrm>
            <a:off x="2050920" y="836640"/>
            <a:ext cx="45370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ość obsługi klienta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rzy wyborze funduszu należy sprawdzić, czy zapewnia on dostęp do najważniejszych informacji, takich jak stan rachunku, wartość jednostki rozrachunkowej. Równie istotna jest możliwość połączenia się z funduszem poprzez Internet, telefon, SMS, e-mail, jak również posiadanie przez niego certyfikatu jakośc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250920" y="2997360"/>
            <a:ext cx="1728720" cy="2271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4"/>
          <a:stretch/>
        </p:blipFill>
        <p:spPr>
          <a:xfrm>
            <a:off x="6804000" y="907920"/>
            <a:ext cx="1317600" cy="1330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5"/>
          <a:stretch/>
        </p:blipFill>
        <p:spPr>
          <a:xfrm>
            <a:off x="6588000" y="3500280"/>
            <a:ext cx="1720800" cy="1944720"/>
          </a:xfrm>
          <a:prstGeom prst="rect">
            <a:avLst/>
          </a:prstGeom>
          <a:ln w="0">
            <a:noFill/>
          </a:ln>
        </p:spPr>
      </p:pic>
      <p:sp>
        <p:nvSpPr>
          <p:cNvPr id="238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C:\Users\Marta\Desktop\sowa\sowa_3.png"/>
          <p:cNvPicPr/>
          <p:nvPr/>
        </p:nvPicPr>
        <p:blipFill>
          <a:blip r:embed="rId6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upa 12"/>
          <p:cNvGrpSpPr/>
          <p:nvPr/>
        </p:nvGrpSpPr>
        <p:grpSpPr>
          <a:xfrm>
            <a:off x="539640" y="692280"/>
            <a:ext cx="7488360" cy="5689440"/>
            <a:chOff x="539640" y="692280"/>
            <a:chExt cx="7488360" cy="5689440"/>
          </a:xfrm>
        </p:grpSpPr>
        <p:sp>
          <p:nvSpPr>
            <p:cNvPr id="60" name="Prostokąt zaokrąglony 8"/>
            <p:cNvSpPr/>
            <p:nvPr/>
          </p:nvSpPr>
          <p:spPr>
            <a:xfrm>
              <a:off x="539640" y="692280"/>
              <a:ext cx="7488360" cy="230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ole tekstowe 7"/>
            <p:cNvSpPr/>
            <p:nvPr/>
          </p:nvSpPr>
          <p:spPr>
            <a:xfrm>
              <a:off x="539640" y="764280"/>
              <a:ext cx="748836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ystem emerytalny 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st systemem ubezpieczeń społecznych, gwarantującym wypłatę świadczeń w postaci emerytury osobom, które nie mogą już samodzielnie zapewnić sobie środków do życia w okresie starośc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2" descr=""/>
            <p:cNvPicPr/>
            <p:nvPr/>
          </p:nvPicPr>
          <p:blipFill>
            <a:blip r:embed="rId2"/>
            <a:stretch/>
          </p:blipFill>
          <p:spPr>
            <a:xfrm>
              <a:off x="1979640" y="3141000"/>
              <a:ext cx="4722480" cy="32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ole tekstowe 7"/>
          <p:cNvSpPr/>
          <p:nvPr/>
        </p:nvSpPr>
        <p:spPr>
          <a:xfrm>
            <a:off x="539640" y="32130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merytura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świadczenie długookresowe przysługujące dożywotnio osobie, która przekroczyła określoną granicę wiek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024360" cy="247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4643280" y="4221000"/>
            <a:ext cx="3194280" cy="237672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ole tekstowe 7"/>
          <p:cNvSpPr/>
          <p:nvPr/>
        </p:nvSpPr>
        <p:spPr>
          <a:xfrm>
            <a:off x="324000" y="981000"/>
            <a:ext cx="396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repartycyjny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zwany umową pokoleniową. Polega na tym, że osoby pracujące opłacają składki, które są następnie przeznaczane na finansowanie bieżących świadczeń emerytalnych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założeniem, że w przyszłości następne pokolenie będzie finansować ich emeryt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4284720" y="2997360"/>
            <a:ext cx="3952800" cy="261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4788000" y="0"/>
            <a:ext cx="3360600" cy="1989000"/>
          </a:xfrm>
          <a:prstGeom prst="rect">
            <a:avLst/>
          </a:prstGeom>
          <a:ln w="0">
            <a:noFill/>
          </a:ln>
        </p:spPr>
      </p:pic>
      <p:sp>
        <p:nvSpPr>
          <p:cNvPr id="7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ole tekstowe 7"/>
          <p:cNvSpPr/>
          <p:nvPr/>
        </p:nvSpPr>
        <p:spPr>
          <a:xfrm>
            <a:off x="5003640" y="476280"/>
            <a:ext cx="3240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kapitałowy </a:t>
            </a:r>
            <a:br>
              <a:rPr sz="2200"/>
            </a:b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olega na tym, że każdy pracownik wpłaca składki emerytalne na swoje osobiste konto w funduszu emerytalnym. Wysokość przyszłej emerytury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systemie tym zależy od: - wysokości odprowadzanych składek, - efektywności ich inwestowania przez prywatne fundusze emerytaln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 średniej długości życia osób przechodzących na emerytur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533840" cy="3190680"/>
          </a:xfrm>
          <a:prstGeom prst="rect">
            <a:avLst/>
          </a:prstGeom>
          <a:ln w="0">
            <a:noFill/>
          </a:ln>
        </p:spPr>
      </p:pic>
      <p:sp>
        <p:nvSpPr>
          <p:cNvPr id="86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817640" y="1413000"/>
            <a:ext cx="5945400" cy="431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1428480" cy="1047960"/>
          </a:xfrm>
          <a:prstGeom prst="rect">
            <a:avLst/>
          </a:prstGeom>
          <a:ln w="0">
            <a:noFill/>
          </a:ln>
        </p:spPr>
      </p:pic>
      <p:sp>
        <p:nvSpPr>
          <p:cNvPr id="93" name="pole tekstowe 7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az 6" descr="wykrzyknik.jpg"/>
          <p:cNvPicPr/>
          <p:nvPr/>
        </p:nvPicPr>
        <p:blipFill>
          <a:blip r:embed="rId1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08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268280"/>
          <a:ext cx="7920000" cy="38124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38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4000" y="1628640"/>
          <a:ext cx="7920000" cy="103680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1036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emerytaln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emerytalny jest systemem ubezpieczeń społecznych gwarantującym wypłatę świadczeń w postaci emerytury osobom, które nie mogą już samodzielnie zapewnić sobie środków do życia w okresie starości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4000" y="2637000"/>
          <a:ext cx="7920000" cy="51732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518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Emerytu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Świadczenie długookresowe przysługujące dożywotnio osobie, która przekroczyła określoną granicę wieku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24000" y="3141720"/>
          <a:ext cx="7920000" cy="129528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1296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repartycyjn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ten zwany jest inaczej umową pokoleniową. Polega na tym, że osoby pracujące opłacają składki, które są następnie przeznaczane na finansowanie bieżących świadczeń emerytalnych, z założeniem, że w przyszłości następne pokolenie będzie finansować ich emerytury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24000" y="4437000"/>
          <a:ext cx="7920000" cy="155412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155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kapitałow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ten polega na tym, że każdy pracownik wpłaca składki emerytalne na swoje osobiste konto w funduszu emerytalnym. Wysokość przyszłej emerytury w systemie tym zależy od wysokości odprowadzanych składek, efektywności ich inwestowania przez prywatne fundusze emerytalne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 średniej długości życia osób przechodzących na emeryturę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pSp>
        <p:nvGrpSpPr>
          <p:cNvPr id="10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ole tekstowe 7"/>
          <p:cNvSpPr/>
          <p:nvPr/>
        </p:nvSpPr>
        <p:spPr>
          <a:xfrm>
            <a:off x="3276720" y="404640"/>
            <a:ext cx="49672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roku 1999 w Polsce przeprowadzono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formę systemu emerytalnego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a wprowadziła mieszany system zabezpieczenia naszych przyszłych emeryt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ole tekstowe 8"/>
          <p:cNvSpPr/>
          <p:nvPr/>
        </p:nvSpPr>
        <p:spPr>
          <a:xfrm>
            <a:off x="324000" y="3357720"/>
            <a:ext cx="45352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ęść emerytury nadal będzie finansowana z bieżących składek płaconych do ZUS-u, pozostała część pochodzić będzie ze składek inwestowanych w prywatne fundusze emerytal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2762280" cy="2009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5021280" y="3500280"/>
            <a:ext cx="3230640" cy="2521080"/>
          </a:xfrm>
          <a:prstGeom prst="rect">
            <a:avLst/>
          </a:prstGeom>
          <a:ln w="0">
            <a:noFill/>
          </a:ln>
        </p:spPr>
      </p:pic>
      <p:sp>
        <p:nvSpPr>
          <p:cNvPr id="114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0:18:33Z</dcterms:created>
  <dc:creator>x</dc:creator>
  <dc:description/>
  <dc:language>en-US</dc:language>
  <cp:lastModifiedBy>Gosia</cp:lastModifiedBy>
  <dcterms:modified xsi:type="dcterms:W3CDTF">2013-01-31T17:25:44Z</dcterms:modified>
  <cp:revision>48</cp:revision>
  <dc:subject/>
  <dc:title>Slajd 1</dc:title>
</cp:coreProperties>
</file>